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4DBAC-2167-4F3F-8C66-4CBE0CD44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14C4D-F95B-41BC-A085-038BC1CD7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D316C-0A26-454C-AA54-2DA178D49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4DD1D-5401-47EE-BF62-483683E7C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33D50-43A0-4519-9357-812914F89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B20D9-2A9D-4515-9B7D-CDE315AB9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0B611-72F6-44A1-B388-62381EEE2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BAA36-229A-43A3-8F57-F87BCB17C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84400-7CBC-4A16-AA1A-2CFBF575E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D6F43-AE47-42B6-8264-54AE4E9EC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6AAB3-2C50-4576-A39C-DF2FA16AB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9F8B8-E326-4923-A840-3773A371D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3E90F-783F-4F38-A255-DB8FFBCCA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805A7-963E-45CC-BAD4-A918030B5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9F03A-C478-442B-9AB0-0CA2436FD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2D152-C3E4-4C8B-A7C4-78434B5AB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00323-B75E-4FFC-8A6B-358BF7D9A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11AD9-5779-432F-AA56-EB2799A5F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30A2D-BBC7-4B3B-A954-D81108838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A162E-55D1-449D-98EE-37E00A056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EB206-6E5F-41A0-99F6-0F42A15B2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B7AE0-8C95-4159-8065-8D8737B6A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3ABAC-3E85-4E18-92B8-EA474453A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79B92-6D51-4C04-AFB2-9193AE7E0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266A8-C53B-43C9-A2F4-C1292BE97C8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BF651-4E8D-46F9-BBEC-D9E399DD5FD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 Frame Rela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P/VC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and semi-permanent channe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sequence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rameter negotiation and usage monito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PC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hannel identifier restriction within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C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separat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 VC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a-signaling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as permanent control signa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set up VCCs to carry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in pre-established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wo end users without network intervention to establish and release user to user VC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stomer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 octe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8 octet information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reduce queuing delay for high priority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can be switched more effici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ier to implement switching of small cells in hard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9408"/>
          <a:stretch/>
        </p:blipFill>
        <p:spPr>
          <a:xfrm>
            <a:off x="1066680" y="1371600"/>
            <a:ext cx="7239240" cy="53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ic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t user to network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flow only at this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user info or 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loss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ic Flow Control (GF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traffic flow at user to network interface (UNI) to alleviate short term over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ets of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connection either subject to flow control or no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 to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one group (A) defaul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two groups (A and 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is from 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by network si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l equipment (TE) initializes two vari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flag to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 (credit counter) to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cells on uncontrolled connection may be sent any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0 no cells may be sent (on controlled or uncontrolled connection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HALT received, TRANSMIT set to 0 and remains until NO_HA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and no cell to transmit on any uncontrolled connec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&gt;0, TE may send cell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ell marked as being on controlled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_CNTR decremen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=0, TE may not send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 sets GO_CNTR to GO_VALUE upon receiving SE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ll signal has no eff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AL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limit effective data rate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be cyc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reduce data rate by half, HALT issued to be in effect 50% of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regular pattern over lifetime of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ilarities between ATM and packet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 of data in discrete chu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logical connections over single physical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TM flow on each logical connection is in fixed sized packets call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(physical layer) 25.6Mbps to 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Queu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coun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_A, GO_VALUE_A,GO_CNTR_B, GO_VALUE_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d on remaining 32 bits of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some error cor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C Operation at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362240" y="1952640"/>
            <a:ext cx="64195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i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3613320" y="0"/>
            <a:ext cx="5530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763"/>
          <a:stretch/>
        </p:blipFill>
        <p:spPr>
          <a:xfrm>
            <a:off x="533520" y="1371600"/>
            <a:ext cx="800100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of 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.6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ming imp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inuous stream of 53 octet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delineation based on header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inea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9283"/>
          <a:stretch/>
        </p:blipFill>
        <p:spPr>
          <a:xfrm>
            <a:off x="990720" y="1400040"/>
            <a:ext cx="70866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 on Cell Delineation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183"/>
          <a:stretch/>
        </p:blipFill>
        <p:spPr>
          <a:xfrm>
            <a:off x="533520" y="1447920"/>
            <a:ext cx="800100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quisition Time v Bit Error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1143000" y="1447920"/>
            <a:ext cx="68580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704"/>
          <a:stretch/>
        </p:blipFill>
        <p:spPr>
          <a:xfrm>
            <a:off x="1828800" y="1600200"/>
            <a:ext cx="54007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DH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es structure on ATM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for 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TM-1 (STS-3)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arry ATM and STM payloa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 connections can be circuit switched using SD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multiplexing techniques can combine several ATM stre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M-1 Payload for SDH-Based ATM Cel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9892"/>
          <a:stretch/>
        </p:blipFill>
        <p:spPr>
          <a:xfrm>
            <a:off x="533520" y="1657440"/>
            <a:ext cx="8076960" cy="36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Service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ant bit rate (C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variable bit rate (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real time variable bit rate (n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ailable bit rate (A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specified bit rate (U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al Tim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ount of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tion of delay (jit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data rate continuous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ght upper bound 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compressed audio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active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/V distribution and retrie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ensitiv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ghtly constrained delay and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-VBR applications transmit at a rate that varies with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mpressed video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s varying sized image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l (uncompressed) frame rate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 compressed data rate v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tatistically multiplex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ble to characterize expected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 QoS in loss and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specif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or average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of how bursty traffic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irline reservations, banking transa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dditional capacity over and above that used by CBR and VBR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all resources ded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y nature of VB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pplication that can tolerate some cell loss or variable del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 based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s forwarded on FIFO ba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specifies peak cell rate (PCR) and minimum cell rate (MC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s allocated to give at least M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are capacity shared among all ARB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LAN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Adapt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nformation transfer protocol not based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(voi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emble bit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-assemble into constant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 IP packets onto ATM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gment IP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LAPF over ATM to retain all IP infrastru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ference Model Plan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for user information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 and connect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n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ole system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yer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ources and parameters in protocol ent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Bit Rat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113"/>
          <a:stretch/>
        </p:blipFill>
        <p:spPr>
          <a:xfrm>
            <a:off x="609480" y="1771560"/>
            <a:ext cx="7848720" cy="40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ation Layer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transmission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lost and misinsert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and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pported Applic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 voice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data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ove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rotocol encapsulation over ATM (MPO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X, AppleTalk, DECNE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rgence sublayer (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 for specific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AL user attaches at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 sublayer (SA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s and unpacks info received from C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3/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8334"/>
          <a:stretch/>
        </p:blipFill>
        <p:spPr>
          <a:xfrm>
            <a:off x="685800" y="1447920"/>
            <a:ext cx="7696080" cy="42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and Reassembly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11467"/>
          <a:stretch/>
        </p:blipFill>
        <p:spPr>
          <a:xfrm>
            <a:off x="1066680" y="1447920"/>
            <a:ext cx="701064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B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R packs and unpacks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accompanied by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3/4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or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ode or stream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transport for connection oriented higher layer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ogical Conne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connections (VC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ous to virtual circuit i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unit of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two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, user-network exchange (control) and network-network exchange (network management and rou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connection (VP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ndle of VCC with same end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PCS PD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10347"/>
          <a:stretch/>
        </p:blipFill>
        <p:spPr>
          <a:xfrm>
            <a:off x="3409920" y="304920"/>
            <a:ext cx="573408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AL 5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17290"/>
          <a:stretch/>
        </p:blipFill>
        <p:spPr>
          <a:xfrm>
            <a:off x="1752480" y="1371600"/>
            <a:ext cx="571500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be more efficient tha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efore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r installed base tha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now of more interest on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Background - 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packets, in 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of virtual circuits at lay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 2 and 3 include 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iderable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ppropriate for modern digital systems with high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carried in separate 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and switching at lay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iminates one layer of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op by hop error or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low and error control (if used) are done by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user data frame sent from source to destination and ACK (from higher layer) sent 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and Dis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link by link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 makes this less of a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ommunications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recommend frame relay above 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rcRect l="0" t="0" r="0" b="23808"/>
          <a:stretch/>
        </p:blipFill>
        <p:spPr>
          <a:xfrm>
            <a:off x="533520" y="1741320"/>
            <a:ext cx="8001000" cy="42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channel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common channel signaling for circuit switching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(Q.92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a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user (TE) and network (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xchange of Q.933 control signa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info between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PF (Link Access Procedure for Frame Mode Bearer Services) Q.9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delimiting, alignment and transpar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ux and demux using address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integral number of octets (zero bit insertion/extrac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neither too long nor sh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of transmission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control fun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onnection Relationshi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358"/>
          <a:stretch/>
        </p:blipFill>
        <p:spPr>
          <a:xfrm>
            <a:off x="1219320" y="1371600"/>
            <a:ext cx="66294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P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r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2590920" y="482760"/>
            <a:ext cx="655308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ntrol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in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flow nor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ified network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network performance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proc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connection setup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V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9717"/>
          <a:stretch/>
        </p:blipFill>
        <p:spPr>
          <a:xfrm>
            <a:off x="4116240" y="457200"/>
            <a:ext cx="502776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hannel Connection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PC provides overall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CC organization done by us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network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traffic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4T13:07:15Z</dcterms:created>
  <dc:creator>Adrian J Pullin</dc:creator>
  <dc:description/>
  <dc:language>en-US</dc:language>
  <cp:lastModifiedBy>Adrian &amp; Wendy</cp:lastModifiedBy>
  <dcterms:modified xsi:type="dcterms:W3CDTF">1999-11-14T09:55:03Z</dcterms:modified>
  <cp:revision>60</cp:revision>
  <dc:subject/>
  <dc:title>William Stallings Data and Computer Communications</dc:title>
</cp:coreProperties>
</file>